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8FC-A78B-4A25-8ECE-035CAB9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E78-D0A1-4658-8F3F-AF5606E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56E-4644-4D1D-842F-B73860F7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ED1-EF5A-4E45-97EE-936242BB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309-7F2E-48E4-9E59-A394C021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9D5-B14E-417E-92F8-058D1A7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BFD-4674-443E-9C4E-E3E6149B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C64-A73D-4D81-B173-A487875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041-5EA9-406D-8284-1076704C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9F1-CD32-4568-A847-187A294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7A5-4004-491A-853F-BCF7F11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608-D97C-4EE9-8F49-7991E70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BCDE-EE01-4CAD-9AFD-8465C796A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322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6095880"/>
            <a:ext cx="3200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ren Str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5251" t="0" r="1596" b="353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3480" y="4724280"/>
            <a:ext cx="4137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soups, hot p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ver-hot b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winter the war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nside of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5251" t="0" r="0" b="0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9000" y="5181480"/>
            <a:ext cx="41202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’s cool fans h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rk basement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426" t="0" r="2511" b="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06760" y="4724280"/>
            <a:ext cx="50544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leeping radiators a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ir dragon selves, b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ssing and pouring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ough my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5251" t="0" r="5251" b="0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5680" y="4495680"/>
            <a:ext cx="37040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s sit on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windows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5479" t="0" r="2282" b="0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1480" y="304920"/>
            <a:ext cx="546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nights are warmer in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22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9720" y="3962520"/>
            <a:ext cx="49539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 burn in fire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les burn in candle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70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61040" y="304920"/>
            <a:ext cx="3469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par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armer in wi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717" b="0"/>
          <a:stretch/>
        </p:blipFill>
        <p:spPr>
          <a:xfrm>
            <a:off x="0" y="0"/>
            <a:ext cx="5029200" cy="387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7606" t="0" r="0" b="0"/>
          <a:stretch/>
        </p:blipFill>
        <p:spPr>
          <a:xfrm>
            <a:off x="4514760" y="3214800"/>
            <a:ext cx="4629240" cy="364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8880" y="104760"/>
            <a:ext cx="52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n summer’s cool sw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200" y="5334120"/>
            <a:ext cx="493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to winter’s hot bath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7076" t="17580" r="0" b="0"/>
          <a:stretch/>
        </p:blipFill>
        <p:spPr>
          <a:xfrm>
            <a:off x="0" y="990720"/>
            <a:ext cx="5257800" cy="339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654" t="0" r="24773" b="17112"/>
          <a:stretch/>
        </p:blipFill>
        <p:spPr>
          <a:xfrm>
            <a:off x="5181480" y="990720"/>
            <a:ext cx="3962520" cy="3336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048120"/>
            <a:ext cx="3886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my paj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grow big warm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076" t="5459" r="29783" b="11534"/>
          <a:stretch/>
        </p:blipFill>
        <p:spPr>
          <a:xfrm>
            <a:off x="4800600" y="1600200"/>
            <a:ext cx="4343400" cy="4152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5251" t="3768" r="8905" b="0"/>
          <a:stretch/>
        </p:blipFill>
        <p:spPr>
          <a:xfrm>
            <a:off x="0" y="1600200"/>
            <a:ext cx="5105520" cy="416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30840" y="1600200"/>
            <a:ext cx="5211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ed is warmest in win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ed high with blankets of pl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ets striped yel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blue starry quilt on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02280" y="1143000"/>
            <a:ext cx="504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Cozy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 is the warmest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7724" t="10449" r="3797" b="0"/>
          <a:stretch/>
        </p:blipFill>
        <p:spPr>
          <a:xfrm>
            <a:off x="0" y="914400"/>
            <a:ext cx="4724280" cy="391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2740" t="0" r="15989" b="6272"/>
          <a:stretch/>
        </p:blipFill>
        <p:spPr>
          <a:xfrm>
            <a:off x="4419720" y="914400"/>
            <a:ext cx="472428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5410080"/>
            <a:ext cx="7543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inter, bodies sit closer, books last lo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ugs squeeze the warm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4340" t="0" r="0" b="0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3760" y="609480"/>
            <a:ext cx="415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friends are w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251" t="2753" r="2369" b="4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5105520"/>
            <a:ext cx="6631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 winter, when it’s the very war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 close my sleepy ey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ight dream of summer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511" t="2278" r="61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00400" y="228600"/>
            <a:ext cx="307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to cool me of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rganizational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uthor thinking when she wrote this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nter by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tegor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th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he use these examples to show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sons 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ittle boy thinks winter is a warm sea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228600"/>
            <a:ext cx="6934320" cy="640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3426" t="0" r="707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0"/>
            <a:ext cx="716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457200"/>
            <a:ext cx="6019920" cy="571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743200"/>
            <a:ext cx="1295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24852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nter is the Warmest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048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flaps on my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144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wooly sw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oups, pies, and b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52240" y="350532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d che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s on l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029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990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666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b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jamas with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ets of pl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11462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now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5600" y="533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d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16240" y="30114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8720" y="510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re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4280" y="44956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t. Charle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6280" y="22096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t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61480" y="838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g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59360" y="598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23438" t="32293" r="21876" b="22917"/>
          <a:stretch/>
        </p:blipFill>
        <p:spPr>
          <a:xfrm>
            <a:off x="0" y="30492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23438" t="29168" r="21876" b="21878"/>
          <a:stretch/>
        </p:blipFill>
        <p:spPr>
          <a:xfrm>
            <a:off x="0" y="0"/>
            <a:ext cx="914400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91320" y="2057400"/>
            <a:ext cx="31240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228600"/>
            <a:ext cx="236232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1905120"/>
            <a:ext cx="23623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352680"/>
            <a:ext cx="22860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86000"/>
            <a:ext cx="19051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3580920"/>
            <a:ext cx="182880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838080"/>
            <a:ext cx="11430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5257800"/>
            <a:ext cx="22860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frie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419720" y="4038120"/>
            <a:ext cx="137160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4363" t="51317" r="58521" b="0"/>
          <a:stretch/>
        </p:blipFill>
        <p:spPr>
          <a:xfrm>
            <a:off x="990720" y="0"/>
            <a:ext cx="1425600" cy="18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58154" t="23888" r="6316" b="15314"/>
          <a:stretch/>
        </p:blipFill>
        <p:spPr>
          <a:xfrm>
            <a:off x="304920" y="1295280"/>
            <a:ext cx="1407960" cy="175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4696" t="33090" r="33799" b="0"/>
          <a:stretch/>
        </p:blipFill>
        <p:spPr>
          <a:xfrm>
            <a:off x="380880" y="3200400"/>
            <a:ext cx="149220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35430" t="17545" r="11161" b="12288"/>
          <a:stretch/>
        </p:blipFill>
        <p:spPr>
          <a:xfrm>
            <a:off x="380880" y="5038560"/>
            <a:ext cx="1905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426" t="0" r="707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685800"/>
            <a:ext cx="769608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er 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oolest seas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095880" cy="770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371600" y="4648320"/>
            <a:ext cx="609588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44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4120" y="3809880"/>
            <a:ext cx="49903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think it’s summ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steamy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22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93800" y="5410080"/>
            <a:ext cx="4928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orld is warmest in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4565" t="4551" r="5022" b="0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6360" y="990720"/>
            <a:ext cx="5008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my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ffs warm with fea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0640" y="6095880"/>
            <a:ext cx="376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at grows earflap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257" t="0" r="22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6560" y="0"/>
            <a:ext cx="3289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nts hide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zzy boo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9800" y="5105520"/>
            <a:ext cx="3681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y hands w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wooly swe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335" t="4468" r="333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3080" y="3048120"/>
            <a:ext cx="8116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summer’s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ep under thick blankets of s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3197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0600" y="1676520"/>
            <a:ext cx="6516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snowmen I build dance on to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ing warm wraparound scar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251" t="0" r="0" b="0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1240" y="304920"/>
            <a:ext cx="7290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my iced summer’s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to hot chocolate.  Cold jelly sandw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to grilled che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1:50:32Z</dcterms:created>
  <dc:creator>Admin</dc:creator>
  <dc:description/>
  <dc:language>en-US</dc:language>
  <cp:lastModifiedBy>Chris Yeager</cp:lastModifiedBy>
  <dcterms:modified xsi:type="dcterms:W3CDTF">2007-11-08T18:23:57Z</dcterms:modified>
  <cp:revision>12</cp:revision>
  <dc:subject/>
  <dc:title>Slide 1</dc:title>
</cp:coreProperties>
</file>